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D913-28F7-4E7D-9CD3-B7B52D50E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E409-7578-4E91-B75D-512E90DC3F4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F4BF-13F3-4A21-90BA-DD4CEE1DECA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4991-7F8B-4B10-9AA5-38F23BF192D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810D-B96F-4025-9742-17B2333A0DD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9E89-682C-4BBF-98DE-F046AC10E44C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2D26-B15E-4D31-A08F-440A024AE7B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B14F-DD7B-4E9B-939E-3FC87C0F189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9941-8896-41FD-93AD-A2DE5153383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3165-8AAA-406A-824B-22BE0126718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1793-9125-4DF9-BBBB-FCE8B93ACF0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3886-743B-42AF-9229-97D370AEB66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67C6-601B-456F-B5C7-EF80E2D5706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AF9-64BD-4317-9105-DAB1AF09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D34-75B9-4437-8995-787D0EA1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528-7E6C-4956-B481-D65F9CFE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CAD-71BB-4430-9630-258208BB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B00C-11EE-416D-9CF8-6A2E32C4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6C23-ADE9-465B-A2BE-9593E533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E2B9-C65E-4B1F-8234-ED4C84B5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D0B1-5DAA-4273-855D-0DBD1CA5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6615-199E-4533-811F-2C7C4223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589F-73DA-497C-8F5A-7AB09B47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4A07-6DBB-44A5-A28C-F9CEF1C4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52C-B48A-4E46-87B4-F5467C3B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6B21-D52D-47B6-8AB9-7B1B91AE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43AD-B529-42A4-B2CC-67539E46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12FB-4BF0-40FB-9824-D1116925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8110-6043-497E-8B4B-9544CA07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D466-25E7-400D-B443-9803A362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017-5DAD-4300-B61B-67AE3905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99F-9349-418F-AFE3-2CE94A95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1F0-23FA-4DA0-8BB7-3375C197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2A2-3070-40A0-B295-4C63AB52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EEC-E05C-461A-A36B-AA95A6C5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71E-D104-42CB-B9D8-BD34FBA4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138-CA08-46A8-A607-2A125417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18FE-E93A-438A-A832-DD498F0654E7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739C-F490-41AF-A356-932B83FD45A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ast Common Multip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sson 3-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ample 3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nd the LCM of 4 and 1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09480" y="2057400"/>
            <a:ext cx="24386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, 8, 12, 1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09480" y="2819520"/>
            <a:ext cx="2438640" cy="6426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, 24, 3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1523880" y="2057400"/>
            <a:ext cx="685800" cy="60948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609480" y="2819520"/>
            <a:ext cx="685800" cy="60948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191120" y="3352680"/>
            <a:ext cx="2971800" cy="642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nswer: 1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ample 5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nd the LCM of 6 and 2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2286000"/>
            <a:ext cx="411480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, 12, 18, 24, 30, 3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09480" y="2971800"/>
            <a:ext cx="4572000" cy="6426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, 40, 60, 80, 100, 12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4495680" y="2286000"/>
            <a:ext cx="281952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2, 48, 54, 6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Oval 6"/>
          <p:cNvSpPr/>
          <p:nvPr/>
        </p:nvSpPr>
        <p:spPr>
          <a:xfrm>
            <a:off x="6553080" y="2286000"/>
            <a:ext cx="685800" cy="60948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Oval 7"/>
          <p:cNvSpPr/>
          <p:nvPr/>
        </p:nvSpPr>
        <p:spPr>
          <a:xfrm>
            <a:off x="1981080" y="2971800"/>
            <a:ext cx="685800" cy="60948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752480" y="4800600"/>
            <a:ext cx="3124440" cy="64260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nswer: 6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Using Our Friend Venn to find LCM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Two numbers:  multiply all factors together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Three numbers:  multiply all factors together. 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Content Placeholder 6" descr=""/>
          <p:cNvPicPr/>
          <p:nvPr/>
        </p:nvPicPr>
        <p:blipFill>
          <a:blip r:embed="rId1"/>
          <a:stretch/>
        </p:blipFill>
        <p:spPr>
          <a:xfrm>
            <a:off x="450720" y="2170080"/>
            <a:ext cx="4054680" cy="39625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7"/>
          <p:cNvSpPr/>
          <p:nvPr/>
        </p:nvSpPr>
        <p:spPr>
          <a:xfrm>
            <a:off x="2209680" y="3657600"/>
            <a:ext cx="762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ared factors of both numbers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Content Placeholder 8" descr=""/>
          <p:cNvPicPr/>
          <p:nvPr/>
        </p:nvPicPr>
        <p:blipFill>
          <a:blip r:embed="rId2"/>
          <a:stretch/>
        </p:blipFill>
        <p:spPr>
          <a:xfrm>
            <a:off x="4638600" y="2170080"/>
            <a:ext cx="4054680" cy="39625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9"/>
          <p:cNvSpPr/>
          <p:nvPr/>
        </p:nvSpPr>
        <p:spPr>
          <a:xfrm>
            <a:off x="5486400" y="3809880"/>
            <a:ext cx="1143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hared factors of 1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number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6781680" y="38862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ared factors of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numb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6324480" y="4648320"/>
            <a:ext cx="685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ared factors of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and 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numb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3048120" y="6553080"/>
            <a:ext cx="3504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1981080" y="6273720"/>
            <a:ext cx="3886200" cy="5806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Magic triangle!  Put factors shared by all three numbers here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60" name="Straight Arrow Connector 13"/>
          <p:cNvCxnSpPr/>
          <p:nvPr/>
        </p:nvCxnSpPr>
        <p:spPr>
          <a:xfrm flipV="1">
            <a:off x="5334120" y="4342680"/>
            <a:ext cx="1296000" cy="1981800"/>
          </a:xfrm>
          <a:prstGeom prst="straightConnector1">
            <a:avLst/>
          </a:prstGeom>
          <a:ln cap="sq" w="31680">
            <a:solidFill>
              <a:srgbClr val="ffffcc"/>
            </a:solidFill>
            <a:bevel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ultip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multiple is formed by multiplying a given number by the counting number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counting numbers are 1, 2, 3, 4, 5, 6, et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Example: List the multiples of 4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8320" y="2017800"/>
            <a:ext cx="2816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 x 1 = 4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 x 2 = 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 x 3 = 1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 x 4 = 1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 x 5 = 2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 x 6 = 24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6095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unting Number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Line 5"/>
          <p:cNvSpPr/>
          <p:nvPr/>
        </p:nvSpPr>
        <p:spPr>
          <a:xfrm flipV="1">
            <a:off x="1523880" y="5562360"/>
            <a:ext cx="0" cy="53316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038480" y="21337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o, the multiples of 4 are 4, 8, 12, 16, 20, 24, 28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are the first five multiples of 13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85800" y="2057400"/>
            <a:ext cx="1676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1 =1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2 = 2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3 = 3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4 = 5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baae"/>
                </a:solidFill>
                <a:latin typeface="Times New Roman"/>
              </a:rPr>
              <a:t>13 x 5 = 6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200400" y="259092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efff7"/>
                </a:solidFill>
                <a:latin typeface="Times New Roman"/>
              </a:rPr>
              <a:t>13, 26, 39, 52, 65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nd the Missing Multip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6, 12, 18, ____, ____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___, 6, 9, 12, ____, ____, 21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___, 24, 36, 48, 60, ____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505320" y="18129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2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876920" y="18129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3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371600" y="3260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343400" y="32608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1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715000" y="3260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18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143000" y="47242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715000" y="470844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7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east Common Multiple (LCM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least common multiple is the smallest number that is common between two lists of multipl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AMPLE: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nd the LCM of 12 and 18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04920" y="1905120"/>
            <a:ext cx="4267080" cy="4815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multiples of 12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2 x 1 = 1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2 x 2 =24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2 x 3 = 3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2 x 4 = 4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2 x 5 =6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800600" y="1905120"/>
            <a:ext cx="4038480" cy="4815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multiples of  18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8 x 1 = 1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8 x 2 = 3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8 x 3 = 54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8 x 4 = 7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8 x 5 = 9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228600"/>
            <a:ext cx="419076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2, 24, 36, 48, 6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33520" y="990720"/>
            <a:ext cx="419076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18, 36, 54, 72, 9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447920" y="23623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first number you see in both lists is 36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1219320" y="1066680"/>
            <a:ext cx="609480" cy="60984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1905120" y="228600"/>
            <a:ext cx="685800" cy="68580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371600" y="37339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least common multiple of 12 and 18 is 36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ample 2: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nd the LCM of 9 and 1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33520" y="2514600"/>
            <a:ext cx="571500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, 18, 27, 36, 45, 54, 63, 7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3520" y="3200400"/>
            <a:ext cx="5715000" cy="6426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, 20, 30, 40, 50, 60, 70, 8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33520" y="3962520"/>
            <a:ext cx="5790960" cy="82548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you don’t see a common multiple, make each list go furth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867280" y="2514600"/>
            <a:ext cx="26672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1, 90, 99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019920" y="3200400"/>
            <a:ext cx="2590560" cy="64260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0, 100, 11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6553080" y="2514600"/>
            <a:ext cx="685800" cy="60948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6019920" y="3200400"/>
            <a:ext cx="685800" cy="609480"/>
          </a:xfrm>
          <a:prstGeom prst="ellipse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09480" y="5029200"/>
            <a:ext cx="5867640" cy="64260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LCM of 9 and 10 is 9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3:37:57Z</dcterms:created>
  <dc:creator>Josh Hammond</dc:creator>
  <dc:description/>
  <dc:language>en-US</dc:language>
  <cp:lastModifiedBy>Home</cp:lastModifiedBy>
  <dcterms:modified xsi:type="dcterms:W3CDTF">2010-11-14T16:29:28Z</dcterms:modified>
  <cp:revision>7</cp:revision>
  <dc:subject/>
  <dc:title>Least Common Multiple</dc:title>
</cp:coreProperties>
</file>